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4BC-ECA8-4326-8A0C-8445FCD1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761-53CB-4439-8349-4CC929A7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B5A-282F-4622-9730-260E37BD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5FB-249D-4D67-AC07-9C222678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DB4C-9191-454C-96F4-9C8544EA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FEF9-2EA6-4873-B7DC-8A1A9761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279D-1BE3-4A02-B4AA-E6F0D878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473C-0AD8-43FF-94E9-C70199DD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829C-CAAF-4C0A-A01B-B0A5F513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9DC9-A89B-4DB5-AC73-637191BF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7F06-E2DC-4CF9-9BFE-D8B70EAD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86A-F06D-4D67-93C9-823E8C9F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63E2-E171-459D-8E44-75FA3F87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4C6A-622B-4314-9E30-6682CB2E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C986-3C40-4FA8-8070-86EE8A69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4592-4397-455D-9239-4300AFE4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70B1-F1CA-4FA0-9C38-0BF2879E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EA4-4FCB-4A39-A7DF-76DA88AF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987-EB9F-45F9-9B7D-08D445F7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FDB-F4C5-42DA-8A8D-83FC5F06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598B-189C-4EA5-904A-DF2E37C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619-4F9A-4C5A-9175-26EC7773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341-6984-4D6A-8ABE-AE164CF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F1C-9563-4ABB-9886-FE26E91B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5A98-5986-422B-AA33-01E5D0BCC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8FD3-435E-486D-AB07-0C7C44B626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42920" y="260280"/>
            <a:ext cx="3725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Ble mae’r asgwrn ?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000" y="907560"/>
            <a:ext cx="835164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1680" y="2637000"/>
            <a:ext cx="67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im ond un o’r brawddegau canlynol sy’n wir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elly ble mae’r asgwr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1497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Mae’r asgwrn dan y grai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Mae’r asgwrn yn yr ardd neu dan y goe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Mae’r asgwrn dan y graig neu dan y cynted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Nid yw’r asgwrn yn yr ard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90792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Ralph y ci wedi claddu asgwrn, ond nid yw’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fio ym mh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unai wedi ei gladdu dan graig, dan y cyntedd, yn yr ardd neu dan y goed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72360" y="3284640"/>
            <a:ext cx="237312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53:52Z</dcterms:created>
  <dc:creator>Carwyn</dc:creator>
  <dc:description/>
  <dc:language>en-US</dc:language>
  <cp:lastModifiedBy>Carwyn</cp:lastModifiedBy>
  <dcterms:modified xsi:type="dcterms:W3CDTF">2008-12-04T20:15:36Z</dcterms:modified>
  <cp:revision>4</cp:revision>
  <dc:subject/>
  <dc:title>Ble mae’r asgwrn ?</dc:title>
</cp:coreProperties>
</file>